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C188-BA76-47D0-8C90-487C1530D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92E6-3319-459F-98C1-8BE38F4AE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92E7-EA6A-4CDD-AE69-48F2D94DB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784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1820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748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784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1820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9EA8-A5C9-4EEB-80CC-6DADFE7DF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F6292-B317-4656-AE73-10798DEF2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3C7FA-626A-416F-A06E-706D57CB9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92CC0-250B-4B66-A20A-C5A6A8591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40691-1FFD-4B05-BC5C-827957E2E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487C7-7E4C-49BF-A162-42B732165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06280" y="138240"/>
            <a:ext cx="7344000" cy="39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2A515-9AFE-46F8-A8D8-C99747D9F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6E7D9-C120-4CDA-919E-B78CC38D1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1EC3-85E7-442A-8BC9-98E6B2C34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BBD56-9D1D-42CD-8419-BC35B5007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4672B-052F-4E69-A28A-F95445166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371B4-1788-4D17-8A77-FD8DDB4AD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0896A-1F22-4581-84A7-7F039FE54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4784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1820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7748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4784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1820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A1119-A5A7-408B-ACF2-3F74D12FB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9D2F-8091-44BD-91C1-51D823C5B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7545-5459-487D-9CEA-2F57747D8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50F5-9418-4211-93BA-46860255D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06280" y="138240"/>
            <a:ext cx="7344000" cy="39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50FA-42D8-4C12-80CB-CD7FC862B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8326-4734-4749-A898-93636DE54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FCA1-3DAD-4199-96B1-4F248DD81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EA4F-C2A1-47B6-B845-F5C879138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53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57200" y="6248520"/>
            <a:ext cx="28940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70760" y="6221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C6B36-B9FF-470D-8C40-371226D751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4680" y="550440"/>
            <a:ext cx="823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291960" y="619560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2746080" y="6195600"/>
            <a:ext cx="3981240" cy="4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246440" y="6195600"/>
            <a:ext cx="1676520" cy="4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C2712-81CF-4E0F-BA3A-A1C5FBFE06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06280" y="22068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REP Use case 18: Weighted average of member children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785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Weighted average of its dimensional children </a:t>
            </a:r>
            <a:br>
              <a:rPr sz="2900"/>
            </a:b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by another primary item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286000" y="2332080"/>
            <a:ext cx="4038480" cy="1481040"/>
          </a:xfrm>
          <a:prstGeom prst="rect">
            <a:avLst/>
          </a:prstGeom>
          <a:ln cap="sq" w="12600">
            <a:solidFill>
              <a:srgbClr val="000000"/>
            </a:solidFill>
            <a:miter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457200" y="3886200"/>
            <a:ext cx="8001000" cy="2303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82E7-8761-4FBF-B4CB-91C3C4A4CB2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ighted average of member childr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Excel formulas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Make PD controlling fact, get PD and EV of dimensional childre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General variable for PDxEV member matching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04920" y="2286000"/>
            <a:ext cx="8381880" cy="160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1B8F-33EC-4212-A2DC-ACBE994F0B0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ighted average of member childr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28600" y="990720"/>
            <a:ext cx="8686800" cy="5638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81F5-C0B2-4AE7-9372-2BB825EC7DD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4T20:38:47Z</dcterms:created>
  <dc:creator>Dan A</dc:creator>
  <dc:description/>
  <dc:language>en-US</dc:language>
  <cp:lastModifiedBy>Herm Fischer</cp:lastModifiedBy>
  <cp:lastPrinted>2002-02-20T16:15:59Z</cp:lastPrinted>
  <dcterms:modified xsi:type="dcterms:W3CDTF">2007-10-01T01:50:03Z</dcterms:modified>
  <cp:revision>197</cp:revision>
  <dc:subject/>
  <dc:title>Materials preparation</dc:title>
</cp:coreProperties>
</file>